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8AFA-2057-4E71-A13D-BDFEF5597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3C56-22A4-49B4-B570-602C38992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D05B-5329-4B2A-8DFF-4312B8D16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F24C-78DD-4F6A-B12C-1F1B6487E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9F79-32F6-4210-88B2-04AFE039D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4FF-A4B0-47D2-9578-269EF5606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38C4-9F23-4C3F-A2A6-FD7E0DFE2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160-C902-43C2-83AA-C55FCE49A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4A00-DFEB-41AF-A95E-E1C89CA8D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7C70-250E-4804-B0A3-8AECF7035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7BE-0065-4664-9578-162452404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DC3-720F-440F-8153-1AEA5B16FE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CAEB-0CCA-4F95-835B-80F73AF3A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57F-2F28-4381-9EE6-759D34494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01E2-C215-4FBD-B67B-9057ECDA7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72C2-BA9B-4A41-9E8C-47069B160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FF4-3AC9-4396-9CB2-5729F3F0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A7AB-CB85-421A-8C00-7DB4CCC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1FB-71A8-4D67-A100-B9EB69FB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0A0-1B36-4839-BEAD-98DBE6B4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B66-659C-45B8-A34E-FDC1327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248-E279-468D-9924-324E731B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649-B40E-4AB1-850F-D5184FF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455-EC1B-407F-BAFD-239596DA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045-4D73-4430-BC09-2C4F3EFC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07D-ECCC-414F-A8DA-168975E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4C3-61EF-4278-B0F8-71370639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AB9-8B78-4A1F-962B-89D588C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689D-4B3E-4195-B9A2-5CAB050882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094-6A6D-4782-AFA9-F922DFC52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69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osystems and Their Interactions</a:t>
            </a:r>
            <a:br>
              <a:rPr sz="3200"/>
            </a:br>
            <a:br>
              <a:rPr sz="32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T: Food Webs &amp; Energy Flow in Eco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produce their own energy through photosynthesis.  They are also known a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ph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Examples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IMG_0539.JPG"/>
          <p:cNvPicPr/>
          <p:nvPr/>
        </p:nvPicPr>
        <p:blipFill>
          <a:blip r:embed="rId1"/>
          <a:stretch/>
        </p:blipFill>
        <p:spPr>
          <a:xfrm>
            <a:off x="2514600" y="23623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48320" y="9907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get their energy by eating other organisms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lso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Exampl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DSC_0307182.jpg"/>
          <p:cNvPicPr/>
          <p:nvPr/>
        </p:nvPicPr>
        <p:blipFill>
          <a:blip r:embed="rId1"/>
          <a:stretch/>
        </p:blipFill>
        <p:spPr>
          <a:xfrm>
            <a:off x="304920" y="457200"/>
            <a:ext cx="39272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2286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dentified more specif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) – eats primary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secondary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arternary Consu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4°consumer) – eats secondary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&amp; tertiary (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457200" y="225360"/>
            <a:ext cx="83818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plug some organisms into these names to make more sen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cause it makes its energy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We will come back to these examples lat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types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(not 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an you guess what they are?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rb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m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eats both plants and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ompos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breaks down dead organic mate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2308320"/>
            <a:ext cx="830556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you show the energy transferred through (in) ecosyst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828800" y="41911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how the sequence in which energy is transferred from one organism to the next as one eats the other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38080" y="2743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food web"/>
          <p:cNvPicPr/>
          <p:nvPr/>
        </p:nvPicPr>
        <p:blipFill>
          <a:blip r:embed="rId1"/>
          <a:stretch/>
        </p:blipFill>
        <p:spPr>
          <a:xfrm>
            <a:off x="-458640" y="-428760"/>
            <a:ext cx="10061280" cy="7716960"/>
          </a:xfrm>
          <a:prstGeom prst="rect">
            <a:avLst/>
          </a:prstGeom>
          <a:ln w="0">
            <a:noFill/>
          </a:ln>
        </p:spPr>
      </p:pic>
      <p:sp>
        <p:nvSpPr>
          <p:cNvPr id="78" name="Sun 3"/>
          <p:cNvSpPr/>
          <p:nvPr/>
        </p:nvSpPr>
        <p:spPr>
          <a:xfrm>
            <a:off x="2743200" y="-685800"/>
            <a:ext cx="2666880" cy="2666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5"/>
          <p:cNvCxnSpPr/>
          <p:nvPr/>
        </p:nvCxnSpPr>
        <p:spPr>
          <a:xfrm flipH="1">
            <a:off x="1828080" y="990720"/>
            <a:ext cx="10674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0" name="Straight Arrow Connector 6"/>
          <p:cNvCxnSpPr/>
          <p:nvPr/>
        </p:nvCxnSpPr>
        <p:spPr>
          <a:xfrm>
            <a:off x="1141920" y="2971800"/>
            <a:ext cx="153000" cy="53424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2361960" y="4343400"/>
            <a:ext cx="6102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2" name="Straight Arrow Connector 11"/>
          <p:cNvCxnSpPr/>
          <p:nvPr/>
        </p:nvCxnSpPr>
        <p:spPr>
          <a:xfrm>
            <a:off x="5562720" y="5029200"/>
            <a:ext cx="838800" cy="21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83" name="Straight Arrow Connector 13"/>
          <p:cNvCxnSpPr/>
          <p:nvPr/>
        </p:nvCxnSpPr>
        <p:spPr>
          <a:xfrm flipH="1" flipV="1">
            <a:off x="7466760" y="2590560"/>
            <a:ext cx="686520" cy="12960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84" name="TextBox 15"/>
          <p:cNvSpPr/>
          <p:nvPr/>
        </p:nvSpPr>
        <p:spPr>
          <a:xfrm>
            <a:off x="5105520" y="-304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868320" y="1522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how do you make a food chain?!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80880" y="13716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n ecosystem that you want to focus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ou wouldn’t want to put together a rattlesnake, a penguin and a black bear because they obviously don’t live together in the same ecosyst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Choose an organism at each level (producer, primary consumer, secondary consumer, tertiary consumer, etc.) that would actually eat the one befor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Place your arrows correctly. Arrows ALWAYS point towards where the energy is GOING (towards who is doing the eat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709280" y="685800"/>
            <a:ext cx="579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 rules for making a food chai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33520" y="339840"/>
            <a:ext cx="8381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ctually already made a food chain earli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producer because it makes i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primary consumer (or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secondary consumer (or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tertiary consumer (or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l it’s a food ch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Notice that the arrows are pointing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here the energy is go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ot what is eating what)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ll living things ultimately get their energy from the SUN (some directly and some indirect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IMG_1045.JPG"/>
          <p:cNvPicPr/>
          <p:nvPr/>
        </p:nvPicPr>
        <p:blipFill>
          <a:blip r:embed="rId1"/>
          <a:stretch/>
        </p:blipFill>
        <p:spPr>
          <a:xfrm>
            <a:off x="1371600" y="5335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457200" y="380880"/>
            <a:ext cx="8686800" cy="67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D CHAIN 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think of a food chain?  Do you think you can draw it (with pictures or words)?  Do you think you could draw it with the arrows going in the right dir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Remember, describe the direction the arrows are pointing by saying “producer to primary consumer” or “secondary consumer to tertiary consumer.”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left to right” because food chains/webs can be drawn in any dir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it 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ak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both mean the same 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 could even draw them from top to bottom or bottom to top!  Just make sure the arrows are pointing in the right direction (towards where the energy is GO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w try drawing your food chain (WITH NEW EXAMPLES!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n your graphic organiz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how us what an ecosystem really looks like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Food webs are really a whole bunch of food chains.  They show us that organisms eat a lot more than just one thing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ood chain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98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762120" y="76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un 4"/>
          <p:cNvSpPr/>
          <p:nvPr/>
        </p:nvSpPr>
        <p:spPr>
          <a:xfrm>
            <a:off x="3886200" y="5410080"/>
            <a:ext cx="2666880" cy="26672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6"/>
          <p:cNvCxnSpPr/>
          <p:nvPr/>
        </p:nvCxnSpPr>
        <p:spPr>
          <a:xfrm flipV="1">
            <a:off x="5257800" y="4801320"/>
            <a:ext cx="2160" cy="608760"/>
          </a:xfrm>
          <a:prstGeom prst="straightConnector1">
            <a:avLst/>
          </a:prstGeom>
          <a:ln w="31680">
            <a:solidFill>
              <a:srgbClr val="7f7f7f"/>
            </a:solidFill>
            <a:miter/>
            <a:tailEnd len="med" type="arrow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Food Webs &amp; Food Ch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webs are made of many food ch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od webs show the transfer of energy in the ENTIRE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 PYRAMID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rophic=ener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ch step in the transfer of energy through an ecosystem is known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838080" y="2438280"/>
            <a:ext cx="7620120" cy="4191120"/>
            <a:chOff x="838080" y="2438280"/>
            <a:chExt cx="7620120" cy="4191120"/>
          </a:xfrm>
        </p:grpSpPr>
        <p:sp>
          <p:nvSpPr>
            <p:cNvPr id="99" name="AutoShape 3"/>
            <p:cNvSpPr/>
            <p:nvPr/>
          </p:nvSpPr>
          <p:spPr>
            <a:xfrm>
              <a:off x="838080" y="2438280"/>
              <a:ext cx="7620120" cy="419112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10"/>
            <p:cNvGrpSpPr/>
            <p:nvPr/>
          </p:nvGrpSpPr>
          <p:grpSpPr>
            <a:xfrm>
              <a:off x="1752480" y="2895480"/>
              <a:ext cx="5791320" cy="3645360"/>
              <a:chOff x="1752480" y="2895480"/>
              <a:chExt cx="5791320" cy="3645360"/>
            </a:xfrm>
          </p:grpSpPr>
          <p:sp>
            <p:nvSpPr>
              <p:cNvPr id="101" name="Line 4"/>
              <p:cNvSpPr/>
              <p:nvPr/>
            </p:nvSpPr>
            <p:spPr>
              <a:xfrm>
                <a:off x="1752480" y="563904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5"/>
              <p:cNvSpPr/>
              <p:nvPr/>
            </p:nvSpPr>
            <p:spPr>
              <a:xfrm>
                <a:off x="2666880" y="4648320"/>
                <a:ext cx="40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6"/>
              <p:cNvSpPr/>
              <p:nvPr/>
            </p:nvSpPr>
            <p:spPr>
              <a:xfrm>
                <a:off x="3504960" y="373356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7"/>
              <p:cNvSpPr/>
              <p:nvPr/>
            </p:nvSpPr>
            <p:spPr>
              <a:xfrm>
                <a:off x="3124080" y="5715360"/>
                <a:ext cx="3124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ers (photosynthesi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3733560" y="487692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m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3809880" y="3809880"/>
                <a:ext cx="18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ond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11"/>
              <p:cNvSpPr/>
              <p:nvPr/>
            </p:nvSpPr>
            <p:spPr>
              <a:xfrm>
                <a:off x="3733560" y="289548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tiary Consu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2"/>
          <p:cNvSpPr/>
          <p:nvPr/>
        </p:nvSpPr>
        <p:spPr>
          <a:xfrm>
            <a:off x="76320" y="152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is a 90% energy 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</a:rPr>
              <a:t>los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trophic leve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0" y="152280"/>
            <a:ext cx="9144000" cy="6631920"/>
            <a:chOff x="0" y="152280"/>
            <a:chExt cx="9144000" cy="6631920"/>
          </a:xfrm>
        </p:grpSpPr>
        <p:sp>
          <p:nvSpPr>
            <p:cNvPr id="110" name="AutoShape 2"/>
            <p:cNvSpPr/>
            <p:nvPr/>
          </p:nvSpPr>
          <p:spPr>
            <a:xfrm>
              <a:off x="0" y="152280"/>
              <a:ext cx="9144000" cy="6629400"/>
            </a:xfrm>
            <a:prstGeom prst="triangle">
              <a:avLst>
                <a:gd name="adj" fmla="val 4975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"/>
            <p:cNvSpPr/>
            <p:nvPr/>
          </p:nvSpPr>
          <p:spPr>
            <a:xfrm>
              <a:off x="990360" y="5410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1904760" y="396216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19160" y="26668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828800" y="58672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ers (Pla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2666880" y="44956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m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2590560" y="304776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cond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3657600" y="159984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ti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>
              <a:off x="8001000" y="632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7086600" y="4952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6248520" y="3504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5410080" y="2209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2"/>
          <p:cNvSpPr/>
          <p:nvPr/>
        </p:nvSpPr>
        <p:spPr>
          <a:xfrm>
            <a:off x="6324480" y="763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… only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10%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the energy is transfer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 rot="3250200">
            <a:off x="6390720" y="3691440"/>
            <a:ext cx="30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the loss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457200" y="209520"/>
            <a:ext cx="84582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there are so many organisms on the bottom of the pyram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ll of the energy for the entire ecosystem; they are the basis of the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re there so few at the top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is not enough energy to have lots of top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0" y="152280"/>
            <a:ext cx="8686800" cy="57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one level that is more important than the others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rs are the most important because they provide energy for the entire eco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10_____ % is passed on between troph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90____ % is lost between trophic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exception to the rul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emoautotrophs!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Use chemicals to make energ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Example: Bacteria found in the deepest parts of the ocean feed off of hydrogen sulfide released from deep sea v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http://www.sciencedawn.com/pictures/Sully_Vent.jpg"/>
          <p:cNvPicPr/>
          <p:nvPr/>
        </p:nvPicPr>
        <p:blipFill>
          <a:blip r:embed="rId1"/>
          <a:stretch/>
        </p:blipFill>
        <p:spPr>
          <a:xfrm>
            <a:off x="0" y="2095560"/>
            <a:ext cx="6348240" cy="4762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s://microbewiki.kenyon.edu/images/thumb/d/d4/Hydrothermal-vent.jpg/400px-Hydrothermal-vent.jpg"/>
          <p:cNvPicPr/>
          <p:nvPr/>
        </p:nvPicPr>
        <p:blipFill>
          <a:blip r:embed="rId2"/>
          <a:stretch/>
        </p:blipFill>
        <p:spPr>
          <a:xfrm>
            <a:off x="5326200" y="0"/>
            <a:ext cx="3809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s://stories.californiasunday.com/data/files/organization/2343/image/derivative/scale~1000x5000~1102ffmont-1414729700-69.jpg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images.slideplayer.com/24/6926878/slides/slide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thefisheriesblog.files.wordpress.com/2012/10/e9b20-deep-sea-20diagram.png"/>
          <p:cNvPicPr/>
          <p:nvPr/>
        </p:nvPicPr>
        <p:blipFill>
          <a:blip r:embed="rId1"/>
          <a:stretch/>
        </p:blipFill>
        <p:spPr>
          <a:xfrm>
            <a:off x="533520" y="457200"/>
            <a:ext cx="81342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IMG_0550.JPG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753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lants, algae and some bacteria can capture solar energy and store it as food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9753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f1de"/>
                </a:solidFill>
                <a:latin typeface="Arial"/>
                <a:ea typeface="Times New Roman"/>
              </a:rPr>
              <a:t>What is this process called?</a:t>
            </a:r>
            <a:r>
              <a:rPr b="1" lang="en-US" sz="3600" spc="-1" strike="noStrike">
                <a:solidFill>
                  <a:srgbClr val="ebf1d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93cddd"/>
                </a:solidFill>
                <a:latin typeface="Calibri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ynthesis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s://s-media-cache-ak0.pinimg.com/736x/f1/8e/e9/f18ee9641a3c4eb45c31dfaa0eed1f7e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106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6:38:15Z</dcterms:created>
  <dc:creator>Matthaei, Cari</dc:creator>
  <dc:description/>
  <dc:language>en-US</dc:language>
  <cp:lastModifiedBy>Builder</cp:lastModifiedBy>
  <dcterms:modified xsi:type="dcterms:W3CDTF">2016-05-19T14:09:16Z</dcterms:modified>
  <cp:revision>23</cp:revision>
  <dc:subject/>
  <dc:title>Ecosystems and Their Interactions  Energy Flow in Ecosystems</dc:title>
</cp:coreProperties>
</file>